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09880" y="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2200" y="76212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600"/>
            <a:ext cx="28954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09880" y="9372600"/>
            <a:ext cx="289584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D809-E493-4B52-A732-6D7D406D6E7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09880" y="9372600"/>
            <a:ext cx="289584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6199-DB30-4ADD-B707-D12080F1676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952560" y="762120"/>
            <a:ext cx="4876920" cy="3657600"/>
          </a:xfrm>
          <a:prstGeom prst="rect">
            <a:avLst/>
          </a:prstGeom>
          <a:ln w="0">
            <a:noFill/>
          </a:ln>
        </p:spPr>
      </p:sp>
      <p:sp>
        <p:nvSpPr>
          <p:cNvPr id="64"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2F5BB-EA96-4EBD-8043-0CBAE9029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02782-4DD2-4524-BD9C-1496F78E4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2A86E-8A1E-41C1-8E87-05F873911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DDB1F-5F35-4B58-84FA-5074B3997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A39FF-E49B-4304-AB12-D201B731E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675A-4282-44D7-9290-581B8550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C89AD-B07B-4B63-B971-E091838D9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E22BC-3860-4994-9B50-AF5826A80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5D374-90F4-4953-A507-27463C345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F162E-301F-4821-B984-F674C8007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D914-12F0-43FC-B014-26F7BCDD8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23C9-8AFA-4582-B14E-99E54B896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A778-EF96-41E4-96B1-C9DDB202C99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2"/>
          <p:cNvGraphicFramePr/>
          <p:nvPr/>
        </p:nvGraphicFramePr>
        <p:xfrm>
          <a:off x="3352680" y="762120"/>
          <a:ext cx="5400720" cy="5305320"/>
        </p:xfrm>
        <a:graphic>
          <a:graphicData uri="http://schemas.openxmlformats.org/presentationml/2006/ole">
            <p:oleObj r:id="rId1" spid="">
              <p:embed/>
              <p:pic>
                <p:nvPicPr>
                  <p:cNvPr id="49" name="Object 2" descr=""/>
                  <p:cNvPicPr/>
                  <p:nvPr/>
                </p:nvPicPr>
                <p:blipFill>
                  <a:blip r:embed="rId2"/>
                  <a:stretch/>
                </p:blipFill>
                <p:spPr>
                  <a:xfrm>
                    <a:off x="3352680" y="762120"/>
                    <a:ext cx="5400720" cy="5305320"/>
                  </a:xfrm>
                  <a:prstGeom prst="rect">
                    <a:avLst/>
                  </a:prstGeom>
                  <a:ln w="0">
                    <a:noFill/>
                  </a:ln>
                </p:spPr>
              </p:pic>
            </p:oleObj>
          </a:graphicData>
        </a:graphic>
      </p:graphicFrame>
      <p:sp>
        <p:nvSpPr>
          <p:cNvPr id="50" name="Freeform 4"/>
          <p:cNvSpPr/>
          <p:nvPr/>
        </p:nvSpPr>
        <p:spPr>
          <a:xfrm>
            <a:off x="3073320" y="3141720"/>
            <a:ext cx="2664000" cy="619200"/>
          </a:xfrm>
          <a:custGeom>
            <a:avLst/>
            <a:gdLst/>
            <a:ahLst/>
            <a:rect l="l" t="t" r="r" b="b"/>
            <a:pathLst>
              <a:path w="1678" h="390">
                <a:moveTo>
                  <a:pt x="0" y="349"/>
                </a:moveTo>
                <a:cubicBezTo>
                  <a:pt x="88" y="353"/>
                  <a:pt x="387" y="390"/>
                  <a:pt x="528" y="381"/>
                </a:cubicBezTo>
                <a:cubicBezTo>
                  <a:pt x="669" y="372"/>
                  <a:pt x="763" y="314"/>
                  <a:pt x="848" y="297"/>
                </a:cubicBezTo>
                <a:cubicBezTo>
                  <a:pt x="933" y="280"/>
                  <a:pt x="985" y="281"/>
                  <a:pt x="1040" y="277"/>
                </a:cubicBezTo>
                <a:cubicBezTo>
                  <a:pt x="1095" y="273"/>
                  <a:pt x="1141" y="279"/>
                  <a:pt x="1178" y="275"/>
                </a:cubicBezTo>
                <a:cubicBezTo>
                  <a:pt x="1215" y="271"/>
                  <a:pt x="1236" y="265"/>
                  <a:pt x="1260" y="253"/>
                </a:cubicBezTo>
                <a:cubicBezTo>
                  <a:pt x="1284" y="241"/>
                  <a:pt x="1298" y="226"/>
                  <a:pt x="1324" y="205"/>
                </a:cubicBezTo>
                <a:cubicBezTo>
                  <a:pt x="1350" y="184"/>
                  <a:pt x="1382" y="152"/>
                  <a:pt x="1414" y="125"/>
                </a:cubicBezTo>
                <a:cubicBezTo>
                  <a:pt x="1446" y="98"/>
                  <a:pt x="1489" y="63"/>
                  <a:pt x="1518" y="43"/>
                </a:cubicBezTo>
                <a:cubicBezTo>
                  <a:pt x="1547" y="23"/>
                  <a:pt x="1568" y="6"/>
                  <a:pt x="1590" y="3"/>
                </a:cubicBezTo>
                <a:cubicBezTo>
                  <a:pt x="1612" y="0"/>
                  <a:pt x="1637" y="3"/>
                  <a:pt x="1652" y="23"/>
                </a:cubicBezTo>
                <a:cubicBezTo>
                  <a:pt x="1667" y="43"/>
                  <a:pt x="1673" y="101"/>
                  <a:pt x="1678" y="121"/>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5"/>
          <p:cNvSpPr/>
          <p:nvPr/>
        </p:nvSpPr>
        <p:spPr>
          <a:xfrm>
            <a:off x="4876920" y="3192480"/>
            <a:ext cx="815760" cy="560520"/>
          </a:xfrm>
          <a:custGeom>
            <a:avLst/>
            <a:gdLst/>
            <a:ahLst/>
            <a:rect l="l" t="t" r="r" b="b"/>
            <a:pathLst>
              <a:path w="514" h="353">
                <a:moveTo>
                  <a:pt x="514" y="99"/>
                </a:moveTo>
                <a:cubicBezTo>
                  <a:pt x="511" y="85"/>
                  <a:pt x="508" y="30"/>
                  <a:pt x="496" y="15"/>
                </a:cubicBezTo>
                <a:cubicBezTo>
                  <a:pt x="484" y="0"/>
                  <a:pt x="463" y="4"/>
                  <a:pt x="444" y="9"/>
                </a:cubicBezTo>
                <a:cubicBezTo>
                  <a:pt x="425" y="14"/>
                  <a:pt x="409" y="27"/>
                  <a:pt x="384" y="45"/>
                </a:cubicBezTo>
                <a:cubicBezTo>
                  <a:pt x="359" y="63"/>
                  <a:pt x="325" y="95"/>
                  <a:pt x="296" y="119"/>
                </a:cubicBezTo>
                <a:cubicBezTo>
                  <a:pt x="267" y="143"/>
                  <a:pt x="239" y="169"/>
                  <a:pt x="212" y="191"/>
                </a:cubicBezTo>
                <a:cubicBezTo>
                  <a:pt x="185" y="213"/>
                  <a:pt x="156" y="236"/>
                  <a:pt x="134" y="249"/>
                </a:cubicBezTo>
                <a:cubicBezTo>
                  <a:pt x="112" y="262"/>
                  <a:pt x="98" y="262"/>
                  <a:pt x="78" y="267"/>
                </a:cubicBezTo>
                <a:cubicBezTo>
                  <a:pt x="58" y="272"/>
                  <a:pt x="29" y="271"/>
                  <a:pt x="16" y="279"/>
                </a:cubicBezTo>
                <a:cubicBezTo>
                  <a:pt x="3" y="287"/>
                  <a:pt x="0" y="305"/>
                  <a:pt x="2" y="317"/>
                </a:cubicBezTo>
                <a:cubicBezTo>
                  <a:pt x="4" y="329"/>
                  <a:pt x="24" y="346"/>
                  <a:pt x="30" y="353"/>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6"/>
          <p:cNvSpPr/>
          <p:nvPr/>
        </p:nvSpPr>
        <p:spPr>
          <a:xfrm>
            <a:off x="4910040" y="3753000"/>
            <a:ext cx="138240" cy="214200"/>
          </a:xfrm>
          <a:custGeom>
            <a:avLst/>
            <a:gdLst/>
            <a:ahLst/>
            <a:rect l="l" t="t" r="r" b="b"/>
            <a:pathLst>
              <a:path w="87" h="135">
                <a:moveTo>
                  <a:pt x="0" y="0"/>
                </a:moveTo>
                <a:cubicBezTo>
                  <a:pt x="14" y="22"/>
                  <a:pt x="69" y="107"/>
                  <a:pt x="87" y="135"/>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0"/>
          <p:cNvSpPr/>
          <p:nvPr/>
        </p:nvSpPr>
        <p:spPr>
          <a:xfrm>
            <a:off x="4940280" y="3263760"/>
            <a:ext cx="771480" cy="455760"/>
          </a:xfrm>
          <a:custGeom>
            <a:avLst/>
            <a:gdLst/>
            <a:ahLst/>
            <a:rect l="l" t="t" r="r" b="b"/>
            <a:pathLst>
              <a:path w="486" h="287">
                <a:moveTo>
                  <a:pt x="486" y="56"/>
                </a:moveTo>
                <a:cubicBezTo>
                  <a:pt x="480" y="49"/>
                  <a:pt x="462" y="25"/>
                  <a:pt x="450" y="16"/>
                </a:cubicBezTo>
                <a:cubicBezTo>
                  <a:pt x="438" y="7"/>
                  <a:pt x="427" y="0"/>
                  <a:pt x="414" y="0"/>
                </a:cubicBezTo>
                <a:cubicBezTo>
                  <a:pt x="401" y="0"/>
                  <a:pt x="384" y="8"/>
                  <a:pt x="370" y="16"/>
                </a:cubicBezTo>
                <a:cubicBezTo>
                  <a:pt x="356" y="24"/>
                  <a:pt x="347" y="37"/>
                  <a:pt x="332" y="50"/>
                </a:cubicBezTo>
                <a:cubicBezTo>
                  <a:pt x="317" y="63"/>
                  <a:pt x="302" y="79"/>
                  <a:pt x="282" y="96"/>
                </a:cubicBezTo>
                <a:cubicBezTo>
                  <a:pt x="262" y="113"/>
                  <a:pt x="237" y="135"/>
                  <a:pt x="214" y="154"/>
                </a:cubicBezTo>
                <a:cubicBezTo>
                  <a:pt x="191" y="173"/>
                  <a:pt x="162" y="195"/>
                  <a:pt x="144" y="208"/>
                </a:cubicBezTo>
                <a:cubicBezTo>
                  <a:pt x="126" y="221"/>
                  <a:pt x="120" y="224"/>
                  <a:pt x="106" y="230"/>
                </a:cubicBezTo>
                <a:cubicBezTo>
                  <a:pt x="92" y="236"/>
                  <a:pt x="75" y="241"/>
                  <a:pt x="59" y="245"/>
                </a:cubicBezTo>
                <a:cubicBezTo>
                  <a:pt x="43" y="249"/>
                  <a:pt x="16" y="247"/>
                  <a:pt x="8" y="254"/>
                </a:cubicBezTo>
                <a:cubicBezTo>
                  <a:pt x="0" y="261"/>
                  <a:pt x="8" y="280"/>
                  <a:pt x="8" y="287"/>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1"/>
          <p:cNvSpPr/>
          <p:nvPr/>
        </p:nvSpPr>
        <p:spPr>
          <a:xfrm>
            <a:off x="4957920" y="3724200"/>
            <a:ext cx="156960" cy="243000"/>
          </a:xfrm>
          <a:custGeom>
            <a:avLst/>
            <a:gdLst/>
            <a:ahLst/>
            <a:rect l="l" t="t" r="r" b="b"/>
            <a:pathLst>
              <a:path w="99" h="153">
                <a:moveTo>
                  <a:pt x="0" y="0"/>
                </a:moveTo>
                <a:cubicBezTo>
                  <a:pt x="16" y="25"/>
                  <a:pt x="79" y="121"/>
                  <a:pt x="99" y="153"/>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3"/>
          <p:cNvSpPr/>
          <p:nvPr/>
        </p:nvSpPr>
        <p:spPr>
          <a:xfrm>
            <a:off x="5715000" y="3352680"/>
            <a:ext cx="228600" cy="228600"/>
          </a:xfrm>
          <a:custGeom>
            <a:avLst/>
            <a:gdLst/>
            <a:ahLst/>
            <a:rect l="l" t="t" r="r" b="b"/>
            <a:pathLst>
              <a:path w="144" h="144">
                <a:moveTo>
                  <a:pt x="144" y="144"/>
                </a:moveTo>
                <a:cubicBezTo>
                  <a:pt x="84" y="84"/>
                  <a:pt x="24" y="24"/>
                  <a:pt x="0" y="0"/>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Oval 9"/>
          <p:cNvSpPr/>
          <p:nvPr/>
        </p:nvSpPr>
        <p:spPr>
          <a:xfrm>
            <a:off x="5676840" y="33019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4"/>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ides à l’exploitation de services réguliers de transport combin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lustration des types de services de transport combiné maritime éligibles</a:t>
            </a:r>
            <a:endParaRPr b="0" lang="en-US" sz="1800" spc="-1" strike="noStrike">
              <a:solidFill>
                <a:srgbClr val="000000"/>
              </a:solidFill>
              <a:latin typeface="Times New Roman"/>
            </a:endParaRPr>
          </a:p>
        </p:txBody>
      </p:sp>
      <p:sp>
        <p:nvSpPr>
          <p:cNvPr id="58" name="Text Box 16"/>
          <p:cNvSpPr/>
          <p:nvPr/>
        </p:nvSpPr>
        <p:spPr>
          <a:xfrm>
            <a:off x="228600" y="1447920"/>
            <a:ext cx="3505320" cy="40492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nobstant les critères généraux d’éligibilité au régime d’aides, les services de transport combiné maritime courte distance peuvent bénéficier de l’aide à la condition que le parcours maritime soit organisé entre deux ports de France continentale ou entre un port de France continentale et un port d’un autre Etat membre, étant entendu que sont exclus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entre la France continentale et une île française ou d’un autre Etat membre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de seul franchissement maritime de la Manche ou de la Mer du nord entre la France et le Royaume-Uni ;</a:t>
            </a:r>
            <a:endParaRPr b="0" lang="en-US" sz="1200" spc="-1" strike="noStrike">
              <a:solidFill>
                <a:srgbClr val="000000"/>
              </a:solidFill>
              <a:latin typeface="Times New Roman"/>
            </a:endParaRPr>
          </a:p>
          <a:p>
            <a:pPr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services « feeder », qui obéissent à une logique strictement armatoriale, à l’exception des services réguliers de transport maritime à courte distance s’appuyant sur un « fond de cale » existant sur une ligne feeder dont les autres trafics remplissent les critères d’éligibilité pour l’aide et peuvent donc être aidés. </a:t>
            </a:r>
            <a:endParaRPr b="0" lang="en-US" sz="1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Text Box 17"/>
          <p:cNvSpPr/>
          <p:nvPr/>
        </p:nvSpPr>
        <p:spPr>
          <a:xfrm>
            <a:off x="228600" y="5943600"/>
            <a:ext cx="86868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f. schéma ci-contre, à titre d’exemple : un conteneur dont le lieu d’enlèvement est situé en Amérique du nord et qui est acheminé pour être livré en France par un service feeder entre un port principal en Allemagne et un port français n’est pas pris en compte pour le calcul de l’aide (tracé en pointillé rouge). Mais un conteneur acheminé entre deux points du continent européen est pris en compte (tracé en vert).</a:t>
            </a:r>
            <a:endParaRPr b="0" lang="en-US" sz="1200" spc="-1" strike="noStrike">
              <a:solidFill>
                <a:srgbClr val="000000"/>
              </a:solidFill>
              <a:latin typeface="Times New Roman"/>
            </a:endParaRPr>
          </a:p>
        </p:txBody>
      </p:sp>
      <p:sp>
        <p:nvSpPr>
          <p:cNvPr id="60" name="Oval 8"/>
          <p:cNvSpPr/>
          <p:nvPr/>
        </p:nvSpPr>
        <p:spPr>
          <a:xfrm>
            <a:off x="4898880" y="370836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19"/>
          <p:cNvSpPr/>
          <p:nvPr/>
        </p:nvSpPr>
        <p:spPr>
          <a:xfrm>
            <a:off x="8001000" y="1447920"/>
            <a:ext cx="1143000" cy="24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1:12:53Z</dcterms:created>
  <dc:creator>hp</dc:creator>
  <dc:description/>
  <dc:language>en-US</dc:language>
  <cp:lastModifiedBy>BARTSCH GAUTHIER Christine</cp:lastModifiedBy>
  <dcterms:modified xsi:type="dcterms:W3CDTF">2025-01-28T17:33:22Z</dcterms:modified>
  <cp:revision>27</cp:revision>
  <dc:subject>Schéma services maritimes</dc:subject>
  <dc:title>Aides combiné</dc:title>
</cp:coreProperties>
</file>